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C77-B2DD-44A6-9326-777F67BB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940-C64D-46C5-8DAD-95E150C9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2CF-36BD-4959-A189-A3F24D6C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296-B043-4B0C-BB18-1845D199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7B9D-D967-44E3-9F55-7AB00029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FB14-9C9D-4E07-8033-EB3E2A82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FF11-89B7-43E5-8B54-87C62369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3EDB-1E15-42FD-AF14-0CE37C66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C565-CA79-4B0E-98D8-A3F9E464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A9D5-A994-4141-B06B-3050A0E9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FBC9-229B-4209-B131-EBF575DE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68A-CE6B-4658-8787-FA6C0C77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3066-A191-41A6-A50D-F0ED8ED8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FBC9-A5A2-49DD-9784-AE995A07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F831-7E33-4C8E-9D57-D2D26087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174E-D5DB-4693-BBC8-1968AC45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283C-B37B-42BD-93E9-3A052C3A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1562F-2076-4555-B6CC-98CE0EA7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26154-0D84-4E61-9E65-F4CBDBDF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16FC2-7BE2-46DA-AC0E-F6AB403D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D7390-B618-4FF8-90A7-E7D30A31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B168-7CF3-41D8-B81C-575495E7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3F6-C1DA-469B-B8FC-5B2577B8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6FCA8-0784-4F1C-A56B-9DDC20F9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68EED-9F24-4D1E-A011-18C0C50D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B4F25-9F20-4B28-8F33-2DBC9FF7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89CD-C283-4A5A-ADE6-02136CFF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5C67B-A21A-4E1A-A78D-98F80BD5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F0FCC-C73C-42F2-BB17-A9BF0007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89EAE-B390-4CE0-A50C-39D105B4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E7894-563D-4A50-84A9-626A2546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AB22F-09B9-4642-8094-31C10BC4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1664D-D1A7-4152-ADBF-D7A9A2B1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264-47DF-4A22-835C-1F76A77D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960AF-FC7F-43BF-B01B-20A29893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8D65D-56A4-4E6F-9009-0B0C2590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8AF00-7A60-4D85-BF09-010C0F30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E5A71-6543-4C4D-815B-30AEC5D0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21E95-8231-44B1-89C6-2A8D214D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9C714-18DB-41C9-B146-A474F09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D1708-1D0B-4EEE-8EFF-AB4CC8AE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57DD4-0A34-4E6F-B6E6-49536173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C8548-56F2-410C-9E1F-A22CBA9D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459FA-543D-4980-B2EB-A6942C90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D4E-AB88-4E04-AC62-3D072B91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FF685-74F2-46B8-9353-96605B85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33A80-8756-4681-9896-06D686F2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1CCF6-CA68-488A-A910-D07E072A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1534-5FF3-41B3-8523-3789F937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9306F-0848-4774-8AC9-22AA8921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52D3E-55AE-4392-8C75-AD10D6A4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BBF37-B97A-4A78-AD20-C772FDDC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EB8D3-C3FC-4E61-96CA-BB0A91C7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43E77-151D-4AF5-95A6-0F989E26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54838-8241-4A7D-867F-F4982542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95B-FCB3-4A58-BFDC-30214BE5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C6B90-2905-44F1-85B0-AB7CEA7A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144B0-447E-40EE-9B7E-7B59C5EE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BE1F4-20EA-4637-B05D-76347C2C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14DA4-1D51-4510-A08C-B4C590E3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60A87-6A8A-4DA7-ABEA-0CB4BF21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7E618-3010-45DE-91B1-98918D6A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B9EFF-8783-466B-8BE4-A7A19894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EF4F7-FE11-4D4C-9FD7-80CDEF4C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A0194-7730-4C49-9F25-9A6A29B4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97263-D3F0-472B-A799-A0983EE7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CCA-28A7-4200-B7F6-685F6DCB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D0348-297A-4C64-AC00-6D8283AB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C031E-4D36-44F4-9467-97738DF7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B15C2-EB68-48CB-8D2D-F23DCF49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06654-1D28-4F3A-A81F-A5A5A321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B3454-4242-41AE-A436-BFAD980F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DB94A-1DD0-464B-8D24-00F51E80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AC4CB-5B86-448E-B9DC-2558A4E3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0D94E-986B-4162-8334-60E6BCA6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805DC-5B69-4099-A591-3C28B218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26A6E-C4EF-4108-B64E-4EDAFDBA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AB5-285F-40B3-A903-AF7B55B0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4C4E9-7FDA-4896-BE6E-6EF08489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37444-7E99-4A0B-AA17-D328E4AB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09F1C-0CF7-4071-BBDB-2ECDD20C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11F32-0512-4A23-A46D-2A7A7635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068AC-88E0-4B6A-87A6-D4646F25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7CB-E05E-44C5-BEDD-F2929686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23DA-DD3F-4A2F-ACAB-F767A656E6A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E8EA-E207-41AC-A89B-C4F717C013B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0BE9-40F6-40FE-ADBE-34916235269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A7A6-D0E0-467D-A478-0884BF21CA7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2239-3E00-4514-9C60-BFED64DBA7E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58B2-F10D-4EFC-BA65-42D5A071414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07F2-A540-42ED-978A-A1AD7CDDD2E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y: Octoberia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6" name="Content Placeholder 3" descr="HO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MUNIT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9" name="Content Placeholder 3" descr="COMMUNITIE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1" name="Content Placeholder 3" descr="COMMUNITITES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CHOO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2" name="Content Placeholder 3" descr="CLASSROOM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4" name="Content Placeholder 3" descr="CLASSROOM5.jpg"/>
          <p:cNvPicPr/>
          <p:nvPr/>
        </p:nvPicPr>
        <p:blipFill>
          <a:blip r:embed="rId1"/>
          <a:stretch/>
        </p:blipFill>
        <p:spPr>
          <a:xfrm>
            <a:off x="0" y="0"/>
            <a:ext cx="6730920" cy="4203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LASSROOM4.jpg"/>
          <p:cNvPicPr/>
          <p:nvPr/>
        </p:nvPicPr>
        <p:blipFill>
          <a:blip r:embed="rId2"/>
          <a:stretch/>
        </p:blipFill>
        <p:spPr>
          <a:xfrm>
            <a:off x="5651640" y="3213000"/>
            <a:ext cx="3492360" cy="3645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CLASSROOM1.jpg"/>
          <p:cNvPicPr/>
          <p:nvPr/>
        </p:nvPicPr>
        <p:blipFill>
          <a:blip r:embed="rId3"/>
          <a:stretch/>
        </p:blipFill>
        <p:spPr>
          <a:xfrm>
            <a:off x="0" y="3357720"/>
            <a:ext cx="5715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ORKPLA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WORKPLACE2.jpg"/>
          <p:cNvPicPr/>
          <p:nvPr/>
        </p:nvPicPr>
        <p:blipFill>
          <a:blip r:embed="rId1"/>
          <a:stretch/>
        </p:blipFill>
        <p:spPr>
          <a:xfrm>
            <a:off x="4572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1" name="Content Placeholder 3" descr="WORKPLACE1.jpg"/>
          <p:cNvPicPr/>
          <p:nvPr/>
        </p:nvPicPr>
        <p:blipFill>
          <a:blip r:embed="rId1"/>
          <a:stretch/>
        </p:blipFill>
        <p:spPr>
          <a:xfrm>
            <a:off x="349200" y="1523880"/>
            <a:ext cx="8791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M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4" name="Content Placeholder 3" descr="HOME4.jpg"/>
          <p:cNvPicPr/>
          <p:nvPr/>
        </p:nvPicPr>
        <p:blipFill>
          <a:blip r:embed="rId1"/>
          <a:stretch/>
        </p:blipFill>
        <p:spPr>
          <a:xfrm>
            <a:off x="163440" y="0"/>
            <a:ext cx="898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5:03:16Z</dcterms:created>
  <dc:creator>Imperialdramon</dc:creator>
  <dc:description/>
  <dc:language>en-US</dc:language>
  <cp:lastModifiedBy>user</cp:lastModifiedBy>
  <dcterms:modified xsi:type="dcterms:W3CDTF">2012-07-12T09:47:14Z</dcterms:modified>
  <cp:revision>2</cp:revision>
  <dc:subject/>
  <dc:title>Dehumanization</dc:title>
</cp:coreProperties>
</file>